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8.xml.rels" ContentType="application/vnd.openxmlformats-package.relationships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6990-72EE-44CA-A437-4D54F054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BE77-FC28-4B74-A842-F9A072D6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ED9-AD07-4843-A62C-E7D8372C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0B4-84E2-4DD4-8989-E438C3D1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61B-60D7-4608-AB4E-4CDA9A85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43A-AE67-483E-8F2C-24F2709C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EC7B-4E0C-4F92-B0AF-6DE22797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9FF9-0E7F-4FBE-9F28-F1B23883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C410-BD40-4B9D-A473-F7FD8E6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FDF-1C80-4E73-BD14-E5B65AE6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F9D-F1C4-412C-94C3-76379B5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8E77-156C-4AE9-83C9-80D70081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3720-8C48-48E2-BEAE-E66EADE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459-8D9A-43C8-AD85-C05136F4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1C86-2EB0-4183-98B4-352FDEE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3BD-20F6-4263-96DB-7695CDE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4FDA-FD28-4BCC-918F-6085DBB3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9BB-ACD9-41C4-AE32-1A29D1E3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9A54-FBF7-4069-89F1-F47CFC4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052-1595-4E88-B710-F7B532A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157-D297-4174-920A-C33C3343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AFB-10C2-47CA-99A0-51AC102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347-DB1E-42CD-A3AB-9202A642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FB6-EF9F-4BFB-AFBD-E8CF29B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F4C-BF68-4967-817D-3C1263B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415-D6AE-4B1B-8C17-432106A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2BC-D020-4CF8-B56B-0E06F3E0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4AC-CAA3-421F-8A74-F220FE67A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com/imgres?imgurl=http://worldtraveller.gmxhome.de/Bilderalbum/Malaysia/47-NEBEL-BUDDHA.JPG&amp;imgrefurl=http://forum.japantoday.com/fb.asp%3Fgo%3Dprev%26m%3D606806%26viewType%3Dtm&amp;h=575&amp;w=900&amp;sz=47&amp;tbnid=cbl-__PeQ3YJ:&amp;tbnh=92&amp;tbnw=145&amp;hl=en&amp;start=2&amp;prev=/images%3Fq%3DBuddha%26svnum%3D10%26hl%3Den%26lr%3D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hyperlink" Target="http://www.acoustics.washington.edu/~gauthier/Photography/Seattle/06_Japanese/DSCF0058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t II: Global Interactions &amp; the First Global Age 1200-1650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Japan and feud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ngols and their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trade and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oamerican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g Dynasty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ong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pt out of central Asia around 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s fierce fighters, they conquered a huge empire from China to Per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rs provided peace, prosperity, and stability in conquered 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names – Genghis Khan and Kublai K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gest regents topic: THEY ISOLATED RUSSIA FROM WESTERN EUROPE FOR OVER 20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d because of poor leaders, huge and diverse empire, resentment of conquered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ongol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Picture 6" descr="http://www.bartleby.com/67/images/mongol02.gif"/>
          <p:cNvPicPr/>
          <p:nvPr/>
        </p:nvPicPr>
        <p:blipFill>
          <a:blip r:embed="rId1"/>
          <a:stretch/>
        </p:blipFill>
        <p:spPr>
          <a:xfrm>
            <a:off x="1752480" y="1523880"/>
            <a:ext cx="6336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trade &amp; inter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traded along the Silk Road to Russia and beyond in the 12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 He – Chinese seaman, explored coast of India, East Africa, Arabian peninsula in 14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ese felt others were barbarians and had nothing to offer, so exploration was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ilk Ro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4" name="Picture 3" descr="http://www.thebritishmuseum.net/thesilkroad/imageFiles/SilkRoadMap.gif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trade &amp; inter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trade with the east was sparked by contacts made during the 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an city states used their geographical advantage and traded extensively with the east and 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frican Civilizations 800-1600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y led to many diverse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st African kingdoms traded with Arab traders, which led to cultural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h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anna (grassy pla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kingd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ana, Mali, Songhai, Benin in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um in th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exploringafrica.matrix.msu.edu/maps/kingdoms.jpg"/>
          <p:cNvPicPr/>
          <p:nvPr/>
        </p:nvPicPr>
        <p:blipFill>
          <a:blip r:embed="rId1"/>
          <a:stretch/>
        </p:blipFill>
        <p:spPr>
          <a:xfrm>
            <a:off x="2209680" y="609480"/>
            <a:ext cx="5381640" cy="55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ies were gener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ed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– animism, ancestor w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soamerican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 likely crossed a land bridge between Siberia and Alaska and migrated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lmecs – 1400 – 500 BC – centered along the Gulf coast of Mexico,  invented a calendar, wri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ay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southern Mexico and much of Central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t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ests held high place in soci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great pyramid temples and large pa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a pictograph wri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, books, numbering system with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 for decline is not known for 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 and 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sland nation was influenced by Korean and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 had been ruled by an emperor since about 500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udalism developed in the 1100s as a result of fighting between rival warl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www.michielb.nl/maya/gif/middleamerica.gif"/>
          <p:cNvPicPr/>
          <p:nvPr/>
        </p:nvPicPr>
        <p:blipFill>
          <a:blip r:embed="rId1"/>
          <a:stretch/>
        </p:blipFill>
        <p:spPr>
          <a:xfrm>
            <a:off x="1676520" y="457200"/>
            <a:ext cx="62560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Aztec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in the central Mexico, they were known as fierce war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by a single emperor, with nobles, warriors, traders, farmers, and slaves under hi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– 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calendar, schools, medical advances, floating capital city of Tenochtitlan, floating gar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by Cortez and a few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http://www.allempires.com/empires/aztec/map1.gif"/>
          <p:cNvPicPr/>
          <p:nvPr/>
        </p:nvPicPr>
        <p:blipFill>
          <a:blip r:embed="rId1"/>
          <a:stretch/>
        </p:blipFill>
        <p:spPr>
          <a:xfrm>
            <a:off x="1752480" y="1066680"/>
            <a:ext cx="617220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Inc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in the Andes Mountains, they used terrace farm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written language, but us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p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system of knotted strings to record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road system linked the empire with a strong cent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 calendar, excelled in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ed by Pizar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http://www.infoperu.com/peru/pics/history/tawahis.jpg"/>
          <p:cNvPicPr/>
          <p:nvPr/>
        </p:nvPicPr>
        <p:blipFill>
          <a:blip r:embed="rId1"/>
          <a:stretch/>
        </p:blipFill>
        <p:spPr>
          <a:xfrm>
            <a:off x="3048120" y="533520"/>
            <a:ext cx="329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ing Dynas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d in mid 1300s and overthrew Mong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ed economic and cultural re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stated the civil servic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nsored Zheng He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rops from the Americas were introduced, improving agricultural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d in the arts – landscape painting, porcelain, s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w little reason to deal with outs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d cultures in Korea, Japan, South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http://www.mnsu.edu/emuseum/prehistory/china/images/mingmap.gif"/>
          <p:cNvPicPr/>
          <p:nvPr/>
        </p:nvPicPr>
        <p:blipFill>
          <a:blip r:embed="rId1"/>
          <a:stretch/>
        </p:blipFill>
        <p:spPr>
          <a:xfrm>
            <a:off x="1371600" y="1371600"/>
            <a:ext cx="69724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happened in Europe?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nd cultural diffusion from the Crusades, deaths from the bubonic plague in the 1300s, declining feudalism and the growing power of monarchs sparked major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of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came next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Absolutism 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Revolution &amp; Enlighte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Rev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Revolution – 17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rench Revolution – 17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in American Independence Movements – Late 17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independ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ghtenment and revolutionary ideas spread from Europe and the US to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ssaint L’Ouverture – Led independence movement in Haiti in 17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Bolivar –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ib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led movements that won independence for Venezuela, Colombia, Ecuador, Peru, Boliva, Argentina, and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 &amp; 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y: a mountainous archipelago vulnerable to earthquakes and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geography: sea food and transportation, isolation, protection from inv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http://www.wwnorton.com/college/history/ralph/ralimage/map29lat.jpg"/>
          <p:cNvPicPr/>
          <p:nvPr/>
        </p:nvPicPr>
        <p:blipFill>
          <a:blip r:embed="rId1"/>
          <a:stretch/>
        </p:blipFill>
        <p:spPr>
          <a:xfrm>
            <a:off x="2209680" y="609480"/>
            <a:ext cx="55184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t III: Nationalism, Imperialism, Militarism, Allianc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uld it lead to revolu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be the likely outcome of national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irth of 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ress of Vienna 1814-18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 after Napoleon’s def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d by Austrian Clemons von Mettern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rew boundaries of Europe, restored traditional monarchies, created a balance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d back the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d feelings of nationalism and oppressed all movements that threatened the status q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Metternich Era 1815-184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olutions occurred throughout Europe and were crushed by Austria, Prussia, and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wps.ablongman.com/wps/media/objects/262/268312/art/figures/KISH_22_515.gif"/>
          <p:cNvPicPr/>
          <p:nvPr/>
        </p:nvPicPr>
        <p:blipFill>
          <a:blip r:embed="rId1"/>
          <a:stretch/>
        </p:blipFill>
        <p:spPr>
          <a:xfrm>
            <a:off x="1371600" y="685800"/>
            <a:ext cx="664704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revolu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ired by the American and French revolutions and a weakened France, leaders in Latin America began rebelling f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governments there were run by military dict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Industrial Revolution (1750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cided with the French R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tgrowth of the domestic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England, which had the resources, capital, and work force for the new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y – new power source – 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conomic theories of the Industrial Revolu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issez-faire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ve it al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dam Smith, father of capit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mid-1800s, Karl Marx will writ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unist Manif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escribe his theory of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mpact of the Industrial Rev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orrendous working conditions at first for men, women,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banization led to poor liv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ation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creased the need for raw materials and markets and led to competition between nations &amp; imperialism of weaker 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cnn.com/2000/ASIANOW/east/03/31/japan.volcano/japan.hokkaido.mt.usu.date.gif"/>
          <p:cNvPicPr/>
          <p:nvPr/>
        </p:nvPicPr>
        <p:blipFill>
          <a:blip r:embed="rId1"/>
          <a:stretch/>
        </p:blipFill>
        <p:spPr>
          <a:xfrm>
            <a:off x="2133720" y="533520"/>
            <a:ext cx="5257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E:\Pictures\Historical people\Industrial town.jpg"/>
          <p:cNvPicPr/>
          <p:nvPr/>
        </p:nvPicPr>
        <p:blipFill>
          <a:blip r:embed="rId1"/>
          <a:stretch/>
        </p:blipFill>
        <p:spPr>
          <a:xfrm>
            <a:off x="1981080" y="1523880"/>
            <a:ext cx="60962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995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wis721 BT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http://www.spartacus.schoolnet.co.uk/marshall.jpg"/>
          <p:cNvPicPr/>
          <p:nvPr/>
        </p:nvPicPr>
        <p:blipFill>
          <a:blip r:embed="rId1"/>
          <a:stretch/>
        </p:blipFill>
        <p:spPr>
          <a:xfrm>
            <a:off x="1219320" y="304920"/>
            <a:ext cx="1942920" cy="281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spartacus.schoolnet.co.uk/brownIR.jpg"/>
          <p:cNvPicPr/>
          <p:nvPr/>
        </p:nvPicPr>
        <p:blipFill>
          <a:blip r:embed="rId2"/>
          <a:stretch/>
        </p:blipFill>
        <p:spPr>
          <a:xfrm>
            <a:off x="2286000" y="2743200"/>
            <a:ext cx="3238560" cy="3838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www.spartacus.schoolnet.co.uk/MarshallIR.jpg"/>
          <p:cNvPicPr/>
          <p:nvPr/>
        </p:nvPicPr>
        <p:blipFill>
          <a:blip r:embed="rId3"/>
          <a:stretch/>
        </p:blipFill>
        <p:spPr>
          <a:xfrm>
            <a:off x="5486400" y="457200"/>
            <a:ext cx="3048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ification of Italy - 186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by three 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ibaldi – the 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zzini – the s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our – the br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used shrewd diplomacy to gain support for the unification and his king’s leadership of the new nation (King Victor Emmanu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nification of Germany - 187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d by Prussia’s chancellor Otto von Bismarck, a strong willed Machiavell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od and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oli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ged war with Denmark, Austria,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shed France in the Franco-Prussian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ed France into attacking after editing the Ems Tele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d France’s submission at the Palace of Versailles – adding insult to inj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E:\Pictures\Historical people\Otto von Bismarck.jpg"/>
          <p:cNvPicPr/>
          <p:nvPr/>
        </p:nvPicPr>
        <p:blipFill>
          <a:blip r:embed="rId1"/>
          <a:stretch/>
        </p:blipFill>
        <p:spPr>
          <a:xfrm>
            <a:off x="4724280" y="914400"/>
            <a:ext cx="3714840" cy="5353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ster of diplomacy, Bismarck nearly single-handedly orchestrated the unification of the German states under Prussian r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tionalism as a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visive weap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kan peninsula was considered the powder keg of Europe because of the nationalist tensions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by the Ottoman empire, Greece, Montenegro, Serbia, Romania, and Bulgaria all gained independence between 1829 and 19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ia-Hungary, Britain, and France all intervened to gain territory from the weakening Ott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tionalism as a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structive fact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ions on the peninsula will ultimately lead to the outbreak of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w 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materials and markets for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p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ritish imperialism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ed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oy Mutiny in 18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theast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pt (Suez Ca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Pictures\Historical people\Imperialism.gif"/>
          <p:cNvPicPr/>
          <p:nvPr/>
        </p:nvPicPr>
        <p:blipFill>
          <a:blip r:embed="rId1"/>
          <a:stretch/>
        </p:blipFill>
        <p:spPr>
          <a:xfrm>
            <a:off x="4876920" y="2743200"/>
            <a:ext cx="3794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ffects of 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66680" y="1752480"/>
          <a:ext cx="7620120" cy="4380120"/>
        </p:xfrm>
        <a:graphic>
          <a:graphicData uri="http://schemas.openxmlformats.org/drawingml/2006/table">
            <a:tbl>
              <a:tblPr/>
              <a:tblGrid>
                <a:gridCol w="3810240"/>
                <a:gridCol w="380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 hospitals, schools, roads, railroads, telegra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one for European benefit, not necessarily native populat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respect for trad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ves treated as 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lass people, inferi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nic boundaries ignored, especially in A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oitation of re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ance on cash 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ntoism – worship of the spirits found in all living and nonliving things, which were thought to control the power of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 from China &amp; Korea: contact resulted from warfare and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writing adopted and ada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c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 such as the tea ceremony, music, dancing, garden design,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cramble for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 – Europeans began a quest to colonize the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4 – Berlin Conference – Europeans agree to divide it amicably (no Africans are invited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hin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iant market for European goods, but resistant to open mark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s – Opium Wars – Britain forced China to open more ports and got Hong K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r Rebellion – 1899 – nationalist rebellion against foreigners in China, but cru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ugawa had banned foreigners and isolated Japan from 1600-18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Perry – 1853 – opened Japan to foreign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iji Restoration – (1867-) modernized Japan by copying the western adv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d the necessity of modernizing or face exploitation as China had experie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atin American independen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lightenment and revolutionary ideas spread from Europe and the US to Latin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ssaint L’Ouverture – Led independence movement in Haiti in 17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on Bolivar –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Lib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led movements that won independence for Venezuela, Colombia, Ecuador, Peru, Boliva, Argentina, and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IMA – Causes of WW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I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rk was the assassination of the Austrian Archduke Franz Ferdinand in 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iance system kicked in and the world was suddenly at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I 1914-191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d at first as a way to clear the air of tensions, but soon found to be a hellish ende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eapons made the fighting more deadly than ever imag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gun, poison gas, tanks, land mines, submarines, 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nch warfare – western front between France and Germany was the blood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E:\Pictures\Historical people\WWI picture.gif"/>
          <p:cNvPicPr/>
          <p:nvPr/>
        </p:nvPicPr>
        <p:blipFill>
          <a:blip r:embed="rId1"/>
          <a:stretch/>
        </p:blipFill>
        <p:spPr>
          <a:xfrm>
            <a:off x="1143000" y="609480"/>
            <a:ext cx="303516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ictures\Historical people\gasmasks.jpg"/>
          <p:cNvPicPr/>
          <p:nvPr/>
        </p:nvPicPr>
        <p:blipFill>
          <a:blip r:embed="rId2"/>
          <a:stretch/>
        </p:blipFill>
        <p:spPr>
          <a:xfrm>
            <a:off x="3809880" y="3048120"/>
            <a:ext cx="48769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E:\Pictures\Historical people\Trench warfare.jpg"/>
          <p:cNvPicPr/>
          <p:nvPr/>
        </p:nvPicPr>
        <p:blipFill>
          <a:blip r:embed="rId1"/>
          <a:stretch/>
        </p:blipFill>
        <p:spPr>
          <a:xfrm>
            <a:off x="3048120" y="304920"/>
            <a:ext cx="3587760" cy="81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ssia in WWI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1 in 3 soldiers actually had guns with bullets – not a good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support at home was extremely low as the people wan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d, pe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17 – Russian Revolution let to Russia’s withdrawal from the war and the establishment of the world’s first communist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http://religion-cults.com/Eastern/Shintoism/r-145b.gif"/>
          <p:cNvPicPr/>
          <p:nvPr/>
        </p:nvPicPr>
        <p:blipFill>
          <a:blip r:embed="rId1"/>
          <a:stretch/>
        </p:blipFill>
        <p:spPr>
          <a:xfrm>
            <a:off x="1066680" y="533520"/>
            <a:ext cx="3737160" cy="197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images.google.com/images?q=tbn:cbl-__PeQ3YJ:worldtraveller.gmxhome.de/Bilderalbum/Malaysia/47-NEBEL-BUDDH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581280"/>
            <a:ext cx="3495960" cy="221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http://web-jpn.org/kidsweb/japan/photo2/d-5.gif"/>
          <p:cNvPicPr/>
          <p:nvPr/>
        </p:nvPicPr>
        <p:blipFill>
          <a:blip r:embed="rId4"/>
          <a:stretch/>
        </p:blipFill>
        <p:spPr>
          <a:xfrm>
            <a:off x="6019920" y="914400"/>
            <a:ext cx="2182680" cy="26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http://images.google.com/images?q=tbn:BvaMJ9Rl3fMJ:http://www.acoustics.washington.edu/~gauthier/Photography/Seattle/06_Japanese/DSCF00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3809880"/>
            <a:ext cx="24861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ussian Revolu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d by Vladimir Lenin and the Bolsheviks, the new government pulled out of the war by giving up vast territory in the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ivil war in Russia followed this period as non-communists tried to overtake the communists, but they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zar Nicholas II and his family were executed by the Bolsheviks in an effort to forever cut the royal lin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aty of Versailles - 191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treaty ending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harsh terms imposed on the Germans, which ultimately led to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Pres. Woodrow Wilson proposed the 14 Points as guiding principles for peace, but they were rejected as Britain and France pushed for more harsh pen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eaty of Versail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gue of Nations was created but the US did not join due to growing sentiment of isolationism in the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d no way to enforce anything and was not successful in influencing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ise of Dictato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suffered from the shell shock of the horrors of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erate times called for desperate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in in US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in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ler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talin in USS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 of 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ized agri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year plans for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purges of enemies 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party Communis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conomic depres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 its peak in 1929 with the crash of the US stock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ed in high 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ssolini - Ital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s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ideology of extreme nationalism, militarism, anti-communist, supports private ownership of property, domination of the weak by the strong, and a single powerful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in Italy in reaction to the communism in Russia, which was seen as a threat to the middle and upp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itler - German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zi Germany became a single party fascis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 police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gest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s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ecution of J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doctrination of Nazi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rose to pow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g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oad to 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repeatedly violated the terms of the Treaty of Versailles, but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e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time (British Prime Minister Neville Chamberlain was Mr. Appeas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6 Spanish Civil War provided a testing ground for Hitler and Mussolini’s new weapons as they support the fascist leader Fran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casso’s </a:t>
            </a: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Guernic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8" name="Picture 3" descr="D:\Age of Anxiety artwork\Picasso - Guernica 1937.jpg"/>
          <p:cNvPicPr/>
          <p:nvPr/>
        </p:nvPicPr>
        <p:blipFill>
          <a:blip r:embed="rId1"/>
          <a:stretch/>
        </p:blipFill>
        <p:spPr>
          <a:xfrm>
            <a:off x="1066680" y="1905120"/>
            <a:ext cx="76456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ism: developed as central authority of the emperor decl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guns – top military commanders who set up dynasties called shogu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yo – the European equivalent to a vassal,  they received their land from the shogun in exchange for a promise to support him with their ar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urai – Equivalent to a knight, this warrior class lived by the bushido code and pledged loyalty to the daimyo in exchange for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sants and artis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of women decl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, 1939 – Hitler invaded Poland, the final straw in his pre-war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y War – Hitler had a quick victory in Poland with h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itzkri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ack, and little happened again until 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pring, Hitler was on the move again and Britain and France were mobilized agains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azi-Soviet Pa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made an agreement with Stalin in order to avoid a two-fron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in was ticked at the west for not including him in the post-WWI treat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aggression 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tler broke the agreement and attacked in 1943, resulting in a two-front war for Germ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ar in the Pacifi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’s imperialist expansion in Asia launched war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. 7, 1941 – Attack on Pearl Harbor brought US into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used an island hopping campaign in the Pacific against the Japa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events of 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day – June 1944 – Allies invaded France and forced German surrender in May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bombing of Japan – August 1945 – brought the war in the Pacific to an end and ushered in the atomic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locaust – genocide of Jews by Nazis i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remberg Trials – convicted Nazi war cri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t-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occupation of Japan as it was demilitar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ed Nations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 holdings in Africa, India, Middle East, SE Asia were lost to national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t-WWI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 Plan – rejected by the USSR, it provided US money to rebuild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man Doctrine – US would help anyone resisting a communist take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s of the Cold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O – US &amp; Western European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aw Pact – USSR &amp; Eastern European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unism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 Zedong led a communist revolution and drove Chiang Kaishek and his nationalists to Tai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cultural contr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Red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hil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Leap Forward (5 year p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outh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White settlers controlled the gov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ialism ended and bla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was treated as second-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zens in a policy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art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Content Placeholder 2"/>
          <p:cNvSpPr/>
          <p:nvPr/>
        </p:nvSpPr>
        <p:spPr>
          <a:xfrm>
            <a:off x="914400" y="457200"/>
            <a:ext cx="76201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lson Man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The most famous of all Afric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t leaders, he was impriso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27 years for speaking out again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outh African president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.W.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e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freed Mandela and ended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st institution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1994, South Africa had its first fr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ion and Mandela was elec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partheid in South Afric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sanctions against South Africa were influential in bringing apartheid to an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Jap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ugawa Shogunate 1603-19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strong centralized feud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d over a period of economic prospe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ile to foreigners, they banned all western merchants and Japanese travel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d to a long period of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advances – kabuki theater, ha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143920" cy="28670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47880" y="1630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914400" y="43434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dia was non-aligned d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t Spots of the Cold W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and airlift during the bloc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an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apse of Commun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hail Gorbachev became the leader of the USSR and took reform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estroika – a restructuring of the economy that allowed aspects of capit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nost – a policy of openness in the press, speech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ist demands grew in the hugely divers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apse of Commun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– hardliner communists overthrew Gorbachev and tried to reinstate a communist government there, but were rejected by the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unist party was outlawed &amp; the USSR dissolved into several separate states that would later form the Commonwealth of Independent States (C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urope Tod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U (European Union) – single currency (Euro), relaxed trade and travel barriers between member countries, designed to create greater economic opportunities for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4" descr="E:\Pictures\Historical people\Euro symbol.jpg"/>
          <p:cNvPicPr/>
          <p:nvPr/>
        </p:nvPicPr>
        <p:blipFill>
          <a:blip r:embed="rId1"/>
          <a:stretch/>
        </p:blipFill>
        <p:spPr>
          <a:xfrm>
            <a:off x="3657600" y="4267080"/>
            <a:ext cx="2359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752480"/>
          <a:ext cx="7772400" cy="35546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ore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n for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sh and burn agriculture is being undertaken to create farm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valuable w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angerment of unidentified plants and animals with incredible live-saving 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epletion of a crucial source of Oxyg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lant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 fertiliz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the waste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1752480"/>
          <a:ext cx="7772400" cy="26672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baniz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 are leaving the countryside in search of job in the c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crowding, poor housing and sanitation, pollution, general strain on limited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 jobs in the suburbs and country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blishing better housing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p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4400" y="1752480"/>
          <a:ext cx="7772400" cy="454212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 Rights vio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– 1 child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kistan – child sex ab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 – 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ghanistan – Tali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 know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ced abortions in China and abandonment of unwanted 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th of women in Africa &amp; Afghanist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economic sanctions against offending n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ward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1752480"/>
          <a:ext cx="7772400" cy="355464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600200"/>
                <a:gridCol w="1638360"/>
                <a:gridCol w="19429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ore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in for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sh and burn agriculture is being undertaken to create farm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valuable w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angerment of unidentified plants and animals with incredible live-saving 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Depletion of a crucial source of Oxyg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lant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ernative fertiliz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the waste 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838080" y="1600200"/>
          <a:ext cx="8001000" cy="4983120"/>
        </p:xfrm>
        <a:graphic>
          <a:graphicData uri="http://schemas.openxmlformats.org/drawingml/2006/table">
            <a:tbl>
              <a:tblPr/>
              <a:tblGrid>
                <a:gridCol w="1660680"/>
                <a:gridCol w="1158840"/>
                <a:gridCol w="1655640"/>
                <a:gridCol w="1684440"/>
                <a:gridCol w="1841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 to birth control due to strong Catholic f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rcity of jobs, strain on natural resources, housing shortages, unemployment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on other birth control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 soil, overpopulation, political upheaval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life expectancy, government corruption &amp; turmoil, high infant death, disease, et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about better farming methods, more resistant crops, population control, international aid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http://www.amphi.com/~psteffen/fmf/pictures/kabuki12.jpg"/>
          <p:cNvPicPr/>
          <p:nvPr/>
        </p:nvPicPr>
        <p:blipFill>
          <a:blip r:embed="rId1"/>
          <a:stretch/>
        </p:blipFill>
        <p:spPr>
          <a:xfrm>
            <a:off x="1143000" y="380880"/>
            <a:ext cx="4354560" cy="3451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50840" y="22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a poem by Issa"/>
          <p:cNvPicPr/>
          <p:nvPr/>
        </p:nvPicPr>
        <p:blipFill>
          <a:blip r:embed="rId2"/>
          <a:stretch/>
        </p:blipFill>
        <p:spPr>
          <a:xfrm>
            <a:off x="4876920" y="3962520"/>
            <a:ext cx="34178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odern Probl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600200"/>
          <a:ext cx="7620120" cy="2925720"/>
        </p:xfrm>
        <a:graphic>
          <a:graphicData uri="http://schemas.openxmlformats.org/drawingml/2006/table">
            <a:tbl>
              <a:tblPr/>
              <a:tblGrid>
                <a:gridCol w="1403640"/>
                <a:gridCol w="1136520"/>
                <a:gridCol w="1623960"/>
                <a:gridCol w="1650960"/>
                <a:gridCol w="180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sed 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ar prolif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an, North Ko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ions want nukes so they will be powerful and/or equal to their neighbors, friends, enem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ases the possibility of a cataclysmic event and annihi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ic sa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ot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ward comp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itary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modern problem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90920" y="1980720"/>
            <a:ext cx="50292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of infectious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rro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Euro ex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6:16:23Z</dcterms:created>
  <dc:creator>Computer Services</dc:creator>
  <dc:description/>
  <dc:language>en-US</dc:language>
  <cp:lastModifiedBy>VANDERPOOL, SUSAN</cp:lastModifiedBy>
  <dcterms:modified xsi:type="dcterms:W3CDTF">2016-06-09T14:46:36Z</dcterms:modified>
  <cp:revision>8</cp:revision>
  <dc:subject/>
  <dc:title>Part II: Global Interactions &amp; the First Global Age</dc:title>
</cp:coreProperties>
</file>